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5;&#1083;&#1080;&#1081;&#1089;&#1082;&#1080;&#1081;_&#1103;&#1079;&#1099;&#1082;" TargetMode="External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&#1046;&#1105;&#1089;&#1090;&#1082;&#1080;&#1081;_&#1076;&#1080;&#1089;&#1082;" TargetMode="External"/><Relationship Id="rId4" Type="http://schemas.openxmlformats.org/officeDocument/2006/relationships/hyperlink" Target="http://ru.wikipedia.org/wiki/&#1046;&#1105;&#1089;&#1090;&#1082;&#1080;&#1081;_&#1076;&#1080;&#1089;&#1082;" TargetMode="External"/><Relationship Id="rId5" Type="http://schemas.openxmlformats.org/officeDocument/2006/relationships/hyperlink" Target="http://ru.wikipedia.org/wiki/&#1046;&#1105;&#1089;&#1090;&#1082;&#1080;&#1081;_&#1076;&#1080;&#1089;&#1082;" TargetMode="External"/><Relationship Id="rId6" Type="http://schemas.openxmlformats.org/officeDocument/2006/relationships/hyperlink" Target="http://ru.wikipedia.org/wiki/&#1054;&#1087;&#1090;&#1080;&#1095;&#1077;&#1089;&#1082;&#1080;&#1081;_&#1087;&#1088;&#1080;&#1074;&#1086;&#1076;" TargetMode="External"/><Relationship Id="rId7" Type="http://schemas.openxmlformats.org/officeDocument/2006/relationships/hyperlink" Target="http://ru.wikipedia.org/wiki/&#1054;&#1087;&#1090;&#1080;&#1095;&#1077;&#1089;&#1082;&#1080;&#1081;_&#1087;&#1088;&#1080;&#1074;&#1086;&#1076;" TargetMode="External"/><Relationship Id="rId8" Type="http://schemas.openxmlformats.org/officeDocument/2006/relationships/hyperlink" Target="http://ru.wikipedia.org/wiki/&#1054;&#1087;&#1090;&#1080;&#1095;&#1077;&#1089;&#1082;&#1080;&#1081;_&#1087;&#1088;&#1080;&#1074;&#1086;&#1076;" TargetMode="External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Стандарты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IDE/ATA, AT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и название специаль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итут Информатики, Инноваций и Бизнес-систем, Кафедра 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чипоренко С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305000"/>
            <a:ext cx="8496000" cy="5040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пания Western Digital разработала спецификацию ATAPI (ATA Packet Interface) для подключения к контроллеру IDE новых устройств хранения, подобных приводам CD-ROM и стриммерам. В традиционной компьютерной архитектуре использовался механизм переноса данных, основанный на регистрах. Современные варианты архитектуры используют механизм передачи на основе пакетов. ATAPI является расширением стандарта IDE, обеспечивающим возможность работы с пакетами. Спецификация ATAPI добавляет к IDE единственную новую команду, расширяющую функции контроллера, и две новых команды адрес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фейс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9A21-F34B-4C91-8EC5-D948B36C475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468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1305000"/>
            <a:ext cx="8496000" cy="5040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hanced I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F5E0-6E0B-4E28-9D94-B464FDEA706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468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76360" y="1736640"/>
          <a:ext cx="8136000" cy="4062600"/>
        </p:xfrm>
        <a:graphic>
          <a:graphicData uri="http://schemas.openxmlformats.org/drawingml/2006/table">
            <a:tbl>
              <a:tblPr/>
              <a:tblGrid>
                <a:gridCol w="4422960"/>
                <a:gridCol w="371304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ный 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hanced 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ивает только два д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ивает четыре диска при двухканальном контроллере и допускает дальнейшее расшир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использоваться только для подключения винчестер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возможность подключения устройств ATAPI (CD-ROM и стриммер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мкость диска не может превышать 528Мб в результате совместного использования BIOS Int 13 и спецификации ID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ация LBA (Linear Block address) позволяет использовать диски размером до 8.4Г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обмена не может превышать 2-3 Мб/се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ежиме 3 PIO и режиме 1 DMA скорость обмена может достигать 13.3Мб/се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имер списка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E240-7C8D-403B-9DAC-7AB830C7BB7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к М.Ю. Аппаратные средст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т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2006. – 107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тыка Т.Л., Попов И.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иферийные устройства вычислительной тех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«Питер", 2007. – 43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C5F1-C13A-4C2D-A9C0-1169FCFFBD5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й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6A2F-F771-49C2-8AA8-88D043D60C3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начение и группы периферийных устройст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/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е реализации ATA/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и ATA/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действие диска IDE с операционной систе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дисков большой ем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тандарты Ultra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жимы D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фей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Стандарты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IDE/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0BE8-1B9C-4B7E-BD20-4CBFDFE8EB4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/IDE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англ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" sz="1800" spc="-1" strike="noStrike">
                <a:solidFill>
                  <a:srgbClr val="000000"/>
                </a:solidFill>
                <a:latin typeface="Arial"/>
              </a:rPr>
              <a:t>Advanced Technology Attach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Присоединение по продвинутой технологии) 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ьный интерфей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ключения накопителей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жёстких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диск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оптических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привод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к компьюте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никшая в 1984 году у компаний Compaq и Western Digital идея IDE- контроллера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grated Disk Electron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заключается в том, что непосредственно сам интерфейсный контроллер встроен в электронику носителя (жесткого диска, например). При этом тот контроллер, к которому подключается диск, по сути дела не является полноценным устройством, а выполняет только функции сопряжения носителя с шиной. Идея оказалась достаточно удачной - цена на контроллер резко снизилась, а на жесткие диски поднялась незначительно. Интерфейс IDE также часто называют ATA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 Attach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иногда AT-BUS-контроллером. Современные чипсеты уже содержат IDE-контроллер и на материнской плате присутствуют соответсвующие разъемы. Если даже чипсет и не имеет IDE-микросхемы, то производители системных плат, как правило, ставят на плату внешний контроллер, так что пользователю IDE-интерфейс достается практически бесплат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Стандарты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AT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4914-894D-4664-9D48-D72C4E3477C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AP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TA Packet Interface) - стандарт, созданный с тем, чтобы позволить таким устройствам, как дисководы CD-ROM или стриммеры, подключаться напрямую к ATA-портам - дешево, и без необходимости специальных контроллеров, как это было ранее. Спецификация была разработана максимально заинтересованными лицами - группой производителей дисководов CD-ROM, с большой помощью от Western Digital и Oak Technology. В результате появления ATAPI-устройств, появилась возможность подключать дисководы CD-ROM и стримеры непосредственно к тому же шлейфу, к которому подключен и винчестер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им образом, ATAPI - это стандарт для CD-Rom'ов и стриммеров, позволяющий им работать с устройствами на основе IDE (ATA), такими как винчестеры, используя те же шлейфы и порты без каких-либо дополнительных контроллеров (если кто-то помнит, то ранее для этого требовался специальный контроллер, в качестве которого в ряде случаев могла выступать, например, звуковая плат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и ATA/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ализации ATA/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5DB7-AD5C-4FC2-AC39-D3CD3763D2D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34920" y="1521000"/>
          <a:ext cx="7516800" cy="3630600"/>
        </p:xfrm>
        <a:graphic>
          <a:graphicData uri="http://schemas.openxmlformats.org/drawingml/2006/table">
            <a:tbl>
              <a:tblPr/>
              <a:tblGrid>
                <a:gridCol w="1846080"/>
                <a:gridCol w="2833560"/>
                <a:gridCol w="1339920"/>
                <a:gridCol w="770040"/>
                <a:gridCol w="727200"/>
              </a:tblGrid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мет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506/412 MF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506/412 R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/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 скорость обме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Мбит/с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Мбит/с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/40МБайт/с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МБайт/с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количество устрой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количество устройств в D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ключение других устрой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екторов на дорожк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пределе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пределе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узка процессо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операции ввода-вывода осуществляются с использованием процессо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чное использов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задачный ввод-выв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ческая коррекция ошибо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оуровневое форматиров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заимодействие диска IDE с операционной систем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7AA6-3B74-4152-97F6-6FA5E4EAFE7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960640"/>
            <a:ext cx="849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воначальная версия стандарта IDE обеспечивала возможность подключения к компьютеру четырех винчестеров и позволяла обмениваться данными с диском на скорости до 10Мбайт/сек, однако реальная скорость ограничивалась прежде всего возможностями самого винчестера. Подключение четырех устройств, предусмотренное спецификацией IDE, в компьютерах семейства IBM PC AT, в спецификации ATA/IDE реализовано не было. Кроме того, совместное использование стандарта ATA и программного интерфейса Int 13 BIOS ограничивало размер дисковых устройств 528Мб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2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68160" y="315504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bookide2" descr=""/>
          <p:cNvPicPr/>
          <p:nvPr/>
        </p:nvPicPr>
        <p:blipFill>
          <a:blip r:embed="rId1"/>
          <a:stretch/>
        </p:blipFill>
        <p:spPr>
          <a:xfrm>
            <a:off x="2556000" y="1808280"/>
            <a:ext cx="4133880" cy="971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842480" y="2704680"/>
            <a:ext cx="599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заимодействие диска IDE с операционной систе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заимодействие диска IDE с операционной систе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ование дисков большой ем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CFA3-103B-4AD0-9EB8-B527E30F2A5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 два способа преодолеть ограничение размера дис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способ заключается в использовании трансляции адресов CHS (цилиндр-головка-сектор) - пересчета реальных значений в фиктивные, удовлетворяющие ограничениям BIOS. Контроллер и BIOS используют в этом случае разную геометрию для адресации данных на диске. Если диск содержит 1500 секторов и имеет 16 головок, то в результате трансляции BIOS будет воспринимать его как устройство с 750 цилиндрами и 32 голов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Enhanced IDE использует другой метод, называемый логической адресацией блоков (LBA - Logical Block Address). В этом случае используется сквозная нумерация секторов и адрес CHS преобразуется в одно 28-битовое число, используемое для нумерации секторов - LBA-адрес. Метод LBA обеспечивает более эффективный способ работы с большими дисками за счет простоты преобразования адреса. Кроме того, этот способ представляется более эффективным при разработке новых операционных систем. Схема адресации с использованием LBA была впервые применена фирмой Western Digital в конце 1993 года, позволив создать диск IDE размеров 540Мб (модель AC254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2960640"/>
            <a:ext cx="849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2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68160" y="315504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125360"/>
            <a:ext cx="8496000" cy="522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следние стандарты ATA 66 (или ultra DMA/66, или UDMA/66) и ATA 100 (или ultra DMA/100, или udma/100) обеспечивают быструю передачу данных в пакетном и непрерывном режимах (66 и 100 Мбайт/с, соответственно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тандарт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UltraD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9C34-A013-4D09-90B3-07ED9257527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468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64000" y="1160640"/>
            <a:ext cx="42480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305000"/>
            <a:ext cx="8496000" cy="5040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тя режимы программируемого ввода-вывода (PIO) являются стандартным методом, поддерживаемым в серийных устройствах IDE, и отличаются высокой совместимостью, существуют и другие способы повышения скорости обмена с винчестерами. Метод прямого доступа к памяти (DMA) основан на передаче данных между диском и памятью компьютера без использования центрального процессора CPU). Тип B для DMA определен в спецификации EISA и обеспечивает обмен со скоростью 4Мб/сек. Этот метод дает преимущество по сравнению со стандартной скоростью для шины ISA, но значительно уступает Fast-SCS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развитием технологии локальных шин в спецификации PCI был предложен новый вариант обмена с использованием DMA (тип F), обеспечивающий скорость 8.33 и 6.67Мб/сек. В соответствии с возможностями существующих микросхем была предложена спецификация DMA Mode 1 с циклом 150нсек., обеспечивающая скорость обмена 13Мб/сек. за счет передачи нескольких слов за один запрос. Комплекты микросхем с поддержкой DMA типа B (EISA) и типа F (PCI) поставляются с конца 1993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жимы D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6C73-E3B9-4C71-9812-019DB429455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468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s</cp:lastModifiedBy>
  <dcterms:modified xsi:type="dcterms:W3CDTF">2009-01-26T03:35:23Z</dcterms:modified>
  <cp:revision>94</cp:revision>
  <dc:subject/>
  <dc:title>Lecture Template </dc:title>
</cp:coreProperties>
</file>